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2748-EFC0-4FBA-8C9C-600DB73BF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C691-657C-4F73-9422-19EEBBA3E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653E-5548-4413-9FF0-411D0D42D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672B-270F-4506-AA78-E535D2975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49BB-2451-4646-BD77-CE4C1E97A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E1F6-B438-4C3E-9A87-61E3BB699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123C-6FE0-4465-A369-F51528689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D07F-BC61-4793-A3C2-54E036BA1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EA8F-8D28-4936-A751-D54ED7FBB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241D-522F-42A8-9EB6-290CE35A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1124-723F-4C79-80FA-4253DCA5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0DAE-2097-485F-823B-493D0DF5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D2373-5D5D-45B0-9EDC-89C46E49A3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69 S Ježišom život má zmysel a cie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ojivý liek on m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každý žia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o všetkých útrapác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i mne vždy stá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Istotne do cieľ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ôjdem raz, vi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slušnou láskou vžd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ním ísť chc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eň čo deň z mil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ho smiem ži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v každej úzk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ňho sa skry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ým žijem, deň čo deň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je môj svet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árnosť je všetk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m, kde jeho nie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remeno mojich ví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iesol môj P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vota cestou m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revádza sám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blaženej sláv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k večne žiť m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k sa mu deň čo deň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ád odovzd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eň čo deň z mil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ho smiem ži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v každej úzk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ňho sa skry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ým žijem, deň čo deň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je môj svet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árnosť je všetk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m, kde jeho niet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Ježišom život m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mysel a cieľ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čo iné dúfať b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lovek tu chcel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lebnosť pokor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ho kto zre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ním chce mať život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čného die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eň čo deň z mil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ho smiem ži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v každej úzk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ňho sa skry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ým žijem, deň čo deň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je môj svet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árnosť je všetk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m, kde jeho nie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tiesne život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las jeho z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 búrku zúrivú utíšiť v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premenách časn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tálicou 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rozivý príboj zmien zastavu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eň čo deň z mil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ho smiem ži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v každej úzk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ňho sa skry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ým žijem, deň čo deň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je môj svet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árnosť je všetk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m, kde jeho nie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12T19:48:21Z</dcterms:modified>
  <cp:revision>21</cp:revision>
  <dc:subject/>
  <dc:title>Je veľký náš Pán, on slávy je Kráľ Nech do všetkých strán  spev vrúcnych znie chvál.</dc:title>
</cp:coreProperties>
</file>